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2C9-D20F-4C44-8B0E-124866AC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21C-7EC7-450D-AEC6-22E93AC6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D3F-347F-4336-8661-DED70ED2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F3C-F922-4485-BF9E-3BBB2FA2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637-41B6-434D-8396-B89CAF83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046-4F96-4AE2-9524-60B892C1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197-C47E-4570-A6B2-3214CF2C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7CB-7219-40BB-BFA6-A944D525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448-6688-460B-A9EB-1A618427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773-3BA4-4F8C-84D9-45AF27F6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8D9-8B65-4A26-B1E7-92A6DB8A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FD8-39AE-4541-B4A4-317C2FA3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A2FA-9619-4996-AF20-410539A4B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wordwall.net/resource/6622784/trip-travel-journey-voyag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Travel, journey, trip, voyage, tour, cruise, hitchhiking: в чем разница и  как употреблять - Need For Speak"/>
          <p:cNvPicPr/>
          <p:nvPr/>
        </p:nvPicPr>
        <p:blipFill>
          <a:blip r:embed="rId1"/>
          <a:srcRect l="0" t="0" r="-229" b="7010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Разноцветные достопримечательности по всему миру | Премиум векторы"/>
          <p:cNvPicPr/>
          <p:nvPr/>
        </p:nvPicPr>
        <p:blipFill>
          <a:blip r:embed="rId1"/>
          <a:srcRect l="0" t="21735" r="0" b="26656"/>
          <a:stretch/>
        </p:blipFill>
        <p:spPr>
          <a:xfrm>
            <a:off x="0" y="412128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activities do people enjoy while travel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39640" y="1413000"/>
            <a:ext cx="603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600" spc="-1" strike="noStrike">
                <a:solidFill>
                  <a:srgbClr val="002060"/>
                </a:solidFill>
                <a:latin typeface="Bahnschrift SemiBold"/>
              </a:rPr>
              <a:t>see famous landmar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ahnschrift SemiBold"/>
              </a:rPr>
              <a:t>- meet the loc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ahnschrift SemiBold"/>
              </a:rPr>
              <a:t>- practice th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ahnschrift SemiBold"/>
              </a:rPr>
              <a:t>- visit museu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ahnschrift SemiBold"/>
              </a:rPr>
              <a:t>- go on guided to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ahnschrift SemiBold"/>
              </a:rPr>
              <a:t>- try local cuis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ahnschrift SemiBold"/>
              </a:rPr>
              <a:t>- buy souven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http://xn--i1abbnckbmcl9fb.xn--p1ai/%D1%81%D1%82%D0%B0%D1%82%D1%8C%D0%B8/576872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0" t="24237" r="31910" b="27534"/>
          <a:stretch/>
        </p:blipFill>
        <p:spPr>
          <a:xfrm>
            <a:off x="0" y="1628640"/>
            <a:ext cx="9144000" cy="4824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611280" y="260280"/>
            <a:ext cx="67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en your books at page 1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remium Vector | A man climbing and hiking a mountain alone to escape from  coronavirus pandemic time and enjoy the life without wear a face mask  illustration"/>
          <p:cNvPicPr/>
          <p:nvPr/>
        </p:nvPicPr>
        <p:blipFill>
          <a:blip r:embed="rId1"/>
          <a:stretch/>
        </p:blipFill>
        <p:spPr>
          <a:xfrm>
            <a:off x="0" y="2095560"/>
            <a:ext cx="5962680" cy="476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rcRect l="0" t="35064" r="17458" b="24577"/>
          <a:stretch/>
        </p:blipFill>
        <p:spPr>
          <a:xfrm>
            <a:off x="0" y="62064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amily Travel Images | Free Vectors, Stock Photos &amp; PSD"/>
          <p:cNvPicPr/>
          <p:nvPr/>
        </p:nvPicPr>
        <p:blipFill>
          <a:blip r:embed="rId1"/>
          <a:stretch/>
        </p:blipFill>
        <p:spPr>
          <a:xfrm>
            <a:off x="3181320" y="2886120"/>
            <a:ext cx="5962680" cy="3971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Tasks for your 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5694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1) You are to prepare booklets about</a:t>
            </a:r>
            <a:r>
              <a:rPr b="0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any </a:t>
            </a:r>
            <a:r>
              <a:rPr b="1" i="1" lang="ru-RU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ountry you would like to present us and to visi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2) There should be such inf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-kind of a tri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-name of the countr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-places to visit (2-3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-where to sta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-entertain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-how to get ther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Book Antiqua"/>
                <a:ea typeface="Times New Roman"/>
              </a:rPr>
              <a:t>-pr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amphlet for Italy Tourism by Shivam Mahaur - issu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Opus 1 Design - hello italy brochure for italy tourist offices - big version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OVID-19: Is it ethical to recommend travel during second wave?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Let`s remember the difference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400" spc="-1" strike="noStrike" u="sng">
                <a:solidFill>
                  <a:srgbClr val="e46c0a"/>
                </a:solidFill>
                <a:uFillTx/>
                <a:latin typeface="Bookman Old Style"/>
              </a:rPr>
              <a:t>travel trip journey voy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ordwall.net/resource/6622784/trip-travel-journey-voy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articiple, What is it_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Английские причастия (Participles) - Present Participle (I) и Past  Participle (II)"/>
          <p:cNvPicPr/>
          <p:nvPr/>
        </p:nvPicPr>
        <p:blipFill>
          <a:blip r:embed="rId1"/>
          <a:stretch/>
        </p:blipFill>
        <p:spPr>
          <a:xfrm>
            <a:off x="0" y="189000"/>
            <a:ext cx="90392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Причастие в английском языке: рассматриваем все варианты - Crown English  Club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7513" t="43922" r="29411" b="12766"/>
          <a:stretch/>
        </p:blipFill>
        <p:spPr>
          <a:xfrm>
            <a:off x="0" y="1268280"/>
            <a:ext cx="9082080" cy="5589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80760" y="333360"/>
            <a:ext cx="76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3152"/>
                </a:solidFill>
                <a:latin typeface="Franklin Gothic Medium"/>
              </a:rPr>
              <a:t>Open your books at page 167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31960" t="24237" r="25796" b="265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Овал 2"/>
          <p:cNvSpPr/>
          <p:nvPr/>
        </p:nvSpPr>
        <p:spPr>
          <a:xfrm>
            <a:off x="539640" y="1557360"/>
            <a:ext cx="287280" cy="216000"/>
          </a:xfrm>
          <a:prstGeom prst="ellipse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вал 3"/>
          <p:cNvSpPr/>
          <p:nvPr/>
        </p:nvSpPr>
        <p:spPr>
          <a:xfrm>
            <a:off x="3708360" y="2276640"/>
            <a:ext cx="287280" cy="215640"/>
          </a:xfrm>
          <a:prstGeom prst="ellipse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4"/>
          <p:cNvSpPr/>
          <p:nvPr/>
        </p:nvSpPr>
        <p:spPr>
          <a:xfrm>
            <a:off x="3708360" y="2924280"/>
            <a:ext cx="287280" cy="217440"/>
          </a:xfrm>
          <a:prstGeom prst="ellipse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5"/>
          <p:cNvSpPr/>
          <p:nvPr/>
        </p:nvSpPr>
        <p:spPr>
          <a:xfrm>
            <a:off x="539640" y="4221000"/>
            <a:ext cx="287280" cy="216000"/>
          </a:xfrm>
          <a:prstGeom prst="ellipse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6"/>
          <p:cNvSpPr/>
          <p:nvPr/>
        </p:nvSpPr>
        <p:spPr>
          <a:xfrm>
            <a:off x="539640" y="4869000"/>
            <a:ext cx="287280" cy="215640"/>
          </a:xfrm>
          <a:prstGeom prst="ellipse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7"/>
          <p:cNvSpPr/>
          <p:nvPr/>
        </p:nvSpPr>
        <p:spPr>
          <a:xfrm>
            <a:off x="539640" y="5589720"/>
            <a:ext cx="287280" cy="215640"/>
          </a:xfrm>
          <a:prstGeom prst="ellipse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8"/>
          <p:cNvSpPr/>
          <p:nvPr/>
        </p:nvSpPr>
        <p:spPr>
          <a:xfrm>
            <a:off x="3780000" y="6308640"/>
            <a:ext cx="287280" cy="216000"/>
          </a:xfrm>
          <a:prstGeom prst="ellipse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RAVEL VOCABULARY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uropean holidays - travelling background. concept ⬇ Stock Photo, Image by  © Moguchev #87132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Схема 2" descr=""/>
          <p:cNvPicPr/>
          <p:nvPr/>
        </p:nvPicPr>
        <p:blipFill>
          <a:blip r:embed="rId2"/>
          <a:stretch/>
        </p:blipFill>
        <p:spPr>
          <a:xfrm>
            <a:off x="-6480" y="-23760"/>
            <a:ext cx="9156960" cy="6900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280" y="3284280"/>
            <a:ext cx="5329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Arial Black"/>
              </a:rPr>
              <a:t>Why do people trave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7T10:01:55Z</dcterms:created>
  <dc:creator>Александр Александр</dc:creator>
  <dc:description/>
  <dc:language>en-US</dc:language>
  <cp:lastModifiedBy>Александр Александр</cp:lastModifiedBy>
  <dcterms:modified xsi:type="dcterms:W3CDTF">2021-03-27T11:10:06Z</dcterms:modified>
  <cp:revision>8</cp:revision>
  <dc:subject/>
  <dc:title>Слайд 1</dc:title>
</cp:coreProperties>
</file>